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41.wmf" ContentType="image/x-wmf"/>
  <Override PartName="/ppt/media/image40.wmf" ContentType="image/x-wmf"/>
  <Override PartName="/ppt/media/camera.wav" ContentType="audio/x-wav"/>
  <Override PartName="/ppt/media/image30.wmf" ContentType="image/x-wmf"/>
  <Override PartName="/ppt/media/child%20yikes.wav" ContentType="audio/x-wav"/>
  <Override PartName="/ppt/media/projctor.wav" ContentType="audio/x-wav"/>
  <Override PartName="/ppt/media/image27.wmf" ContentType="image/x-wmf"/>
  <Override PartName="/ppt/media/image26.wmf" ContentType="image/x-wmf"/>
  <Override PartName="/ppt/media/image24.wmf" ContentType="image/x-wmf"/>
  <Override PartName="/ppt/media/planeflyby.wav" ContentType="audio/x-wav"/>
  <Override PartName="/ppt/media/image34.wmf" ContentType="image/x-wmf"/>
  <Override PartName="/ppt/media/image23.wmf" ContentType="image/x-wmf"/>
  <Override PartName="/ppt/media/image22.wmf" ContentType="image/x-wmf"/>
  <Override PartName="/ppt/media/image32.wmf" ContentType="image/x-wmf"/>
  <Override PartName="/ppt/media/trainflyby.wav" ContentType="audio/x-wav"/>
  <Override PartName="/ppt/media/image37.wmf" ContentType="image/x-wmf"/>
  <Override PartName="/ppt/media/image38.wmf" ContentType="image/x-wmf"/>
  <Override PartName="/ppt/media/image8.wmf" ContentType="image/x-wmf"/>
  <Override PartName="/ppt/media/image51.wmf" ContentType="image/x-wmf"/>
  <Override PartName="/ppt/media/image33.wmf" ContentType="image/x-wmf"/>
  <Override PartName="/ppt/media/image39.wmf" ContentType="image/x-wmf"/>
  <Override PartName="/ppt/media/image9.wmf" ContentType="image/x-wmf"/>
  <Override PartName="/ppt/media/EXPLODE.WAV" ContentType="audio/x-wav"/>
  <Override PartName="/ppt/media/image52.wmf" ContentType="image/x-wmf"/>
  <Override PartName="/ppt/media/jetflyby.wav" ContentType="audio/x-wav"/>
  <Override PartName="/ppt/media/image12.wmf" ContentType="image/x-wmf"/>
  <Override PartName="/ppt/media/LASER.WAV" ContentType="audio/x-wav"/>
  <Override PartName="/ppt/media/image2.wmf" ContentType="image/x-wmf"/>
  <Override PartName="/ppt/media/image14.wmf" ContentType="image/x-wmf"/>
  <Override PartName="/ppt/media/peopleooo.wav" ContentType="audio/x-wav"/>
  <Override PartName="/ppt/media/image50.wmf" ContentType="image/x-wmf"/>
  <Override PartName="/ppt/media/image48.wmf" ContentType="image/x-wmf"/>
  <Override PartName="/ppt/media/image11.wmf" ContentType="image/x-wmf"/>
  <Override PartName="/ppt/media/image47.wmf" ContentType="image/x-wmf"/>
  <Override PartName="/ppt/media/image10.wmf" ContentType="image/x-wmf"/>
  <Override PartName="/ppt/media/image46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5.wmf" ContentType="image/x-wmf"/>
  <Override PartName="/ppt/media/carbrake.wav" ContentType="audio/x-wav"/>
  <Override PartName="/ppt/media/jetflyby2.wav" ContentType="audio/x-wav"/>
  <Override PartName="/ppt/media/image3.wmf" ContentType="image/x-wmf"/>
  <Override PartName="/ppt/media/fastcar.wav" ContentType="audio/x-wav"/>
  <Override PartName="/ppt/media/image15.wmf" ContentType="image/x-wmf"/>
  <Override PartName="/ppt/media/kids%20yikes.wav" ContentType="audio/x-wav"/>
  <Override PartName="/ppt/media/image49.wmf" ContentType="image/x-wmf"/>
  <Override PartName="/ppt/media/CHIMES.WAV" ContentType="audio/x-wav"/>
  <Override PartName="/ppt/media/image28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4.wmf" ContentType="image/x-wmf"/>
  <Override PartName="/ppt/media/image16.wmf" ContentType="image/x-wmf"/>
  <Override PartName="/ppt/media/WHOOSH.WAV" ContentType="audio/x-wav"/>
  <Override PartName="/ppt/media/image29.wmf" ContentType="image/x-wmf"/>
  <Override PartName="/ppt/media/image13.wmf" ContentType="image/x-wmf"/>
  <Override PartName="/ppt/media/image1.wmf" ContentType="image/x-wmf"/>
  <Override PartName="/ppt/media/image31.wmf" ContentType="image/x-wmf"/>
  <Override PartName="/ppt/media/traingoby.wav" ContentType="audio/x-wav"/>
  <Override PartName="/ppt/media/gunshot.wav" ContentType="audio/x-wav"/>
  <Override PartName="/ppt/media/image25.wmf" ContentType="image/x-wmf"/>
  <Override PartName="/ppt/media/children%20yeah.wav" ContentType="audio/x-wav"/>
  <Override PartName="/ppt/media/image21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7.wmf" ContentType="image/x-wmf"/>
  <Override PartName="/ppt/media/image19.wmf" ContentType="image/x-wmf"/>
  <Override PartName="/ppt/media/driveby.wav" ContentType="audio/x-wav"/>
  <Override PartName="/ppt/media/image20.wmf" ContentType="image/x-wmf"/>
  <Override PartName="/ppt/media/URCRAZEE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459D-D79B-47D8-9F47-361261C7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0BDC-08D2-46D2-A058-078BA84D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3E3F-A09B-49EA-8612-14BA3EE6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B8B9-873A-4D78-8779-20590B4C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E11C-4135-4197-A6B4-5DF95557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400-5EFE-4A31-A746-652714C3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5EA9-31A5-4DE7-B4B2-ED59DCD1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009-A5DD-4FFB-9E4E-A9C921C6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8DD-3FE9-4F8D-8904-535889A3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9465-5A85-4FBB-B718-93EC9B54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A451-F4E2-4E2E-8345-DC26C910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FEBF-8307-487E-B6CD-01E8E7A9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FDEE-147A-4A3D-85E5-44F773DAA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WHOOSH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carbrake.wav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children%20yeah.wav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.wmf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projctor.wav"/><Relationship Id="rId22" Type="http://schemas.openxmlformats.org/officeDocument/2006/relationships/audio" Target="../media/driveby.wav"/><Relationship Id="rId23" Type="http://schemas.openxmlformats.org/officeDocument/2006/relationships/audio" Target="../media/projctor.wav"/><Relationship Id="rId24" Type="http://schemas.openxmlformats.org/officeDocument/2006/relationships/audio" Target="../media/projctor.wav"/><Relationship Id="rId25" Type="http://schemas.openxmlformats.org/officeDocument/2006/relationships/audio" Target="../media/WHOOSH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WHOOSH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camera.wav"/><Relationship Id="rId32" Type="http://schemas.openxmlformats.org/officeDocument/2006/relationships/audio" Target="../media/gunshot.wav"/><Relationship Id="rId33" Type="http://schemas.openxmlformats.org/officeDocument/2006/relationships/audio" Target="../media/gunshot.wav"/><Relationship Id="rId34" Type="http://schemas.openxmlformats.org/officeDocument/2006/relationships/audio" Target="../media/planeflyby.wav"/><Relationship Id="rId3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audio" Target="../media/projctor.wav"/><Relationship Id="rId12" Type="http://schemas.openxmlformats.org/officeDocument/2006/relationships/audio" Target="../media/WHOOSH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WHOOSH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camera.wav"/><Relationship Id="rId19" Type="http://schemas.openxmlformats.org/officeDocument/2006/relationships/audio" Target="../media/LASER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traingoby.wav"/><Relationship Id="rId2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audio" Target="../media/projctor.wav"/><Relationship Id="rId12" Type="http://schemas.openxmlformats.org/officeDocument/2006/relationships/audio" Target="../media/WHOOSH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WHOOSH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camera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jetflyby.wav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2.wmf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projctor.wav"/><Relationship Id="rId22" Type="http://schemas.openxmlformats.org/officeDocument/2006/relationships/audio" Target="../media/driveby.wav"/><Relationship Id="rId23" Type="http://schemas.openxmlformats.org/officeDocument/2006/relationships/audio" Target="../media/projctor.wav"/><Relationship Id="rId24" Type="http://schemas.openxmlformats.org/officeDocument/2006/relationships/audio" Target="../media/projctor.wav"/><Relationship Id="rId25" Type="http://schemas.openxmlformats.org/officeDocument/2006/relationships/audio" Target="../media/WHOOSH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WHOOSH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camera.wav"/><Relationship Id="rId32" Type="http://schemas.openxmlformats.org/officeDocument/2006/relationships/audio" Target="../media/gunshot.wav"/><Relationship Id="rId33" Type="http://schemas.openxmlformats.org/officeDocument/2006/relationships/audio" Target="../media/gunshot.wav"/><Relationship Id="rId34" Type="http://schemas.openxmlformats.org/officeDocument/2006/relationships/audio" Target="../media/trainflyby.wav"/><Relationship Id="rId3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driveby.wav"/><Relationship Id="rId23" Type="http://schemas.openxmlformats.org/officeDocument/2006/relationships/audio" Target="../media/LASER.WAV"/><Relationship Id="rId24" Type="http://schemas.openxmlformats.org/officeDocument/2006/relationships/audio" Target="../media/driveby.wav"/><Relationship Id="rId25" Type="http://schemas.openxmlformats.org/officeDocument/2006/relationships/audio" Target="../media/LASER.WAV"/><Relationship Id="rId26" Type="http://schemas.openxmlformats.org/officeDocument/2006/relationships/audio" Target="../media/gunshot.wav"/><Relationship Id="rId27" Type="http://schemas.openxmlformats.org/officeDocument/2006/relationships/audio" Target="../media/gunshot.wav"/><Relationship Id="rId28" Type="http://schemas.openxmlformats.org/officeDocument/2006/relationships/audio" Target="../media/children%20yeah.wav"/><Relationship Id="rId2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driveby.wav"/><Relationship Id="rId23" Type="http://schemas.openxmlformats.org/officeDocument/2006/relationships/audio" Target="../media/LASER.WAV"/><Relationship Id="rId24" Type="http://schemas.openxmlformats.org/officeDocument/2006/relationships/audio" Target="../media/driveby.wav"/><Relationship Id="rId25" Type="http://schemas.openxmlformats.org/officeDocument/2006/relationships/audio" Target="../media/LASER.WAV"/><Relationship Id="rId26" Type="http://schemas.openxmlformats.org/officeDocument/2006/relationships/audio" Target="../media/gunshot.wav"/><Relationship Id="rId27" Type="http://schemas.openxmlformats.org/officeDocument/2006/relationships/audio" Target="../media/gunshot.wav"/><Relationship Id="rId28" Type="http://schemas.openxmlformats.org/officeDocument/2006/relationships/audio" Target="../media/child%20yikes.wav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audio" Target="../media/carbrake.wav"/><Relationship Id="rId14" Type="http://schemas.openxmlformats.org/officeDocument/2006/relationships/audio" Target="../media/projctor.wav"/><Relationship Id="rId15" Type="http://schemas.openxmlformats.org/officeDocument/2006/relationships/audio" Target="../media/projctor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peopleooo.wav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kids%20yikes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driveby.wav"/><Relationship Id="rId23" Type="http://schemas.openxmlformats.org/officeDocument/2006/relationships/audio" Target="../media/LASER.WAV"/><Relationship Id="rId24" Type="http://schemas.openxmlformats.org/officeDocument/2006/relationships/audio" Target="../media/driveby.wav"/><Relationship Id="rId25" Type="http://schemas.openxmlformats.org/officeDocument/2006/relationships/audio" Target="../media/LASER.WAV"/><Relationship Id="rId26" Type="http://schemas.openxmlformats.org/officeDocument/2006/relationships/audio" Target="../media/gunshot.wav"/><Relationship Id="rId27" Type="http://schemas.openxmlformats.org/officeDocument/2006/relationships/audio" Target="../media/gunshot.wav"/><Relationship Id="rId28" Type="http://schemas.openxmlformats.org/officeDocument/2006/relationships/audio" Target="../media/URCRAZEE.wav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audio" Target="../media/WHOOSH.WAV"/><Relationship Id="rId6" Type="http://schemas.openxmlformats.org/officeDocument/2006/relationships/audio" Target="../media/EXPLODE.WAV"/><Relationship Id="rId7" Type="http://schemas.openxmlformats.org/officeDocument/2006/relationships/audio" Target="../media/WHOOSH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wmf"/><Relationship Id="rId19" Type="http://schemas.openxmlformats.org/officeDocument/2006/relationships/audio" Target="../media/CHIMES.WAV"/><Relationship Id="rId20" Type="http://schemas.openxmlformats.org/officeDocument/2006/relationships/audio" Target="../media/carbrake.wav"/><Relationship Id="rId21" Type="http://schemas.openxmlformats.org/officeDocument/2006/relationships/audio" Target="../media/projctor.wav"/><Relationship Id="rId22" Type="http://schemas.openxmlformats.org/officeDocument/2006/relationships/audio" Target="../media/projctor.wav"/><Relationship Id="rId23" Type="http://schemas.openxmlformats.org/officeDocument/2006/relationships/audio" Target="../media/projctor.wav"/><Relationship Id="rId24" Type="http://schemas.openxmlformats.org/officeDocument/2006/relationships/audio" Target="../media/driveby.wav"/><Relationship Id="rId25" Type="http://schemas.openxmlformats.org/officeDocument/2006/relationships/audio" Target="../media/projctor.wav"/><Relationship Id="rId26" Type="http://schemas.openxmlformats.org/officeDocument/2006/relationships/audio" Target="../media/projctor.wav"/><Relationship Id="rId27" Type="http://schemas.openxmlformats.org/officeDocument/2006/relationships/audio" Target="../media/WHOOSH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WHOOSH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camera.wav"/><Relationship Id="rId34" Type="http://schemas.openxmlformats.org/officeDocument/2006/relationships/audio" Target="../media/gunshot.wav"/><Relationship Id="rId35" Type="http://schemas.openxmlformats.org/officeDocument/2006/relationships/audio" Target="../media/gunshot.wav"/><Relationship Id="rId36" Type="http://schemas.openxmlformats.org/officeDocument/2006/relationships/audio" Target="../media/fastcar.wav"/><Relationship Id="rId3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audio" Target="../media/projctor.wav"/><Relationship Id="rId12" Type="http://schemas.openxmlformats.org/officeDocument/2006/relationships/audio" Target="../media/WHOOSH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WHOOSH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camera.wav"/><Relationship Id="rId19" Type="http://schemas.openxmlformats.org/officeDocument/2006/relationships/audio" Target="../media/LASER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jetflyby2.wav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371600"/>
            <a:ext cx="8534160" cy="1523880"/>
            <a:chOff x="304920" y="1371600"/>
            <a:chExt cx="8534160" cy="1523880"/>
          </a:xfrm>
        </p:grpSpPr>
        <p:sp>
          <p:nvSpPr>
            <p:cNvPr id="42" name=""/>
            <p:cNvSpPr/>
            <p:nvPr/>
          </p:nvSpPr>
          <p:spPr>
            <a:xfrm>
              <a:off x="304920" y="1371600"/>
              <a:ext cx="8534160" cy="152388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2133720"/>
              <a:ext cx="8534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133720" y="1371600"/>
              <a:ext cx="0" cy="1523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nding Inter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9718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x-intercept of the graph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60480" y="3581280"/>
          <a:ext cx="246384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0480" y="3581280"/>
                    <a:ext cx="246384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784520" y="4114800"/>
                <a:ext cx="28144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1" name=""/>
          <p:cNvGraphicFramePr/>
          <p:nvPr/>
        </p:nvGraphicFramePr>
        <p:xfrm>
          <a:off x="2971800" y="4191120"/>
          <a:ext cx="39672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4191120"/>
                    <a:ext cx="3967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789280" y="4924440"/>
          <a:ext cx="49212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89280" y="4924440"/>
                    <a:ext cx="4921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276720" y="4800600"/>
          <a:ext cx="995400" cy="6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4800600"/>
                    <a:ext cx="9954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 txBox="1"/>
          <p:nvPr/>
        </p:nvSpPr>
        <p:spPr>
          <a:xfrm>
            <a:off x="2057400" y="5562720"/>
            <a:ext cx="243828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(6,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x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20968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y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129528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205740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king a Quick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5257800" y="2743200"/>
            <a:ext cx="2743200" cy="2743200"/>
            <a:chOff x="5257800" y="2743200"/>
            <a:chExt cx="2743200" cy="2743200"/>
          </a:xfrm>
        </p:grpSpPr>
        <p:sp>
          <p:nvSpPr>
            <p:cNvPr id="300" name=""/>
            <p:cNvSpPr/>
            <p:nvPr/>
          </p:nvSpPr>
          <p:spPr>
            <a:xfrm>
              <a:off x="58672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77120" y="2743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866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960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578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57800" y="27432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57800" y="30481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57800" y="3352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57800" y="3657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57800" y="39625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57800" y="4267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57800" y="4572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7800" y="48769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57800" y="51814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67280" y="274320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57800" y="426708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0" y="114300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x-intercept and the y-intercept of the line. Use the intercepts to sketch a quick graph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41911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03200" y="2133720"/>
          <a:ext cx="281304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2133720"/>
                    <a:ext cx="281304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5791320" y="29718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638680" y="2590920"/>
            <a:ext cx="1447920" cy="289548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886200"/>
            <a:ext cx="289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2982960" y="3505320"/>
          <a:ext cx="528480" cy="13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2960" y="3505320"/>
                    <a:ext cx="528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614760" y="3886200"/>
          <a:ext cx="83484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14760" y="3886200"/>
                    <a:ext cx="8348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0" y="5181480"/>
            <a:ext cx="289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951280" y="4800600"/>
          <a:ext cx="528480" cy="13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51280" y="4800600"/>
                    <a:ext cx="528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3505320" y="5181480"/>
          <a:ext cx="836640" cy="52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5320" y="5181480"/>
                    <a:ext cx="8366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2133720" y="2590920"/>
          <a:ext cx="101124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33720" y="2590920"/>
                    <a:ext cx="10112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304920" y="2590920"/>
          <a:ext cx="1011240" cy="52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920" y="2590920"/>
                    <a:ext cx="10112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457200" y="3124080"/>
            <a:ext cx="312408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96840" y="3179880"/>
          <a:ext cx="1495440" cy="650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6840" y="3179880"/>
                    <a:ext cx="14954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1523880" y="3200400"/>
          <a:ext cx="836640" cy="52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3880" y="3200400"/>
                    <a:ext cx="836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king a Quick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257800" y="2743200"/>
            <a:ext cx="2743200" cy="2743200"/>
            <a:chOff x="5257800" y="2743200"/>
            <a:chExt cx="2743200" cy="2743200"/>
          </a:xfrm>
        </p:grpSpPr>
        <p:sp>
          <p:nvSpPr>
            <p:cNvPr id="344" name=""/>
            <p:cNvSpPr/>
            <p:nvPr/>
          </p:nvSpPr>
          <p:spPr>
            <a:xfrm>
              <a:off x="58672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77120" y="2743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0866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960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578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57800" y="27432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57800" y="30481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57800" y="3352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57800" y="3657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57800" y="39625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57800" y="4267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57800" y="4572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57800" y="48769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57800" y="51814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77120" y="274320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57800" y="304812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0" y="114300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x-intercept and the y-intercept of the line. Use the intercepts to sketch a quick graph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05720" y="29718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38240" y="2133720"/>
          <a:ext cx="334332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2133720"/>
                    <a:ext cx="334332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6400800" y="51055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400800" y="2666880"/>
            <a:ext cx="457200" cy="28195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3886200"/>
            <a:ext cx="289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873520" y="3505320"/>
          <a:ext cx="749160" cy="13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3520" y="3505320"/>
                    <a:ext cx="74916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614760" y="3886200"/>
          <a:ext cx="83484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14760" y="3886200"/>
                    <a:ext cx="8348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0" y="5181480"/>
            <a:ext cx="289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840040" y="4800600"/>
          <a:ext cx="749160" cy="13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0040" y="4800600"/>
                    <a:ext cx="74916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3505320" y="5181480"/>
          <a:ext cx="1409760" cy="52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5320" y="5181480"/>
                    <a:ext cx="140976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8001000" y="3124080"/>
            <a:ext cx="609480" cy="26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-2      -4   -6  -8  -10 -12 -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75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75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raingo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king a Quick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5257800" y="2743200"/>
            <a:ext cx="2743200" cy="2743200"/>
            <a:chOff x="5257800" y="2743200"/>
            <a:chExt cx="2743200" cy="2743200"/>
          </a:xfrm>
        </p:grpSpPr>
        <p:sp>
          <p:nvSpPr>
            <p:cNvPr id="380" name=""/>
            <p:cNvSpPr/>
            <p:nvPr/>
          </p:nvSpPr>
          <p:spPr>
            <a:xfrm>
              <a:off x="58672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77120" y="2743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866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6960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578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257800" y="27432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57800" y="30481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57800" y="3352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57800" y="3657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57800" y="39625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57800" y="4267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57800" y="4572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57800" y="48769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57800" y="51814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62720" y="274320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57800" y="487692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0" y="114300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x-intercept and the y-intercept of the line. Use the intercepts to sketch a quick graph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924680" y="480060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04920" y="2133720"/>
          <a:ext cx="356220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356220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5486400" y="29718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5029200" y="2666880"/>
            <a:ext cx="3200400" cy="23623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3886200"/>
            <a:ext cx="289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2851200" y="3505320"/>
          <a:ext cx="793800" cy="13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1200" y="3505320"/>
                    <a:ext cx="7938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3614760" y="3886200"/>
          <a:ext cx="83484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14760" y="3886200"/>
                    <a:ext cx="8348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0" y="5181480"/>
            <a:ext cx="289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2819520" y="4800600"/>
          <a:ext cx="793800" cy="13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9520" y="4800600"/>
                    <a:ext cx="7938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3657600" y="5181480"/>
          <a:ext cx="836640" cy="52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5181480"/>
                    <a:ext cx="8366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king a Quick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257800" y="2743200"/>
            <a:ext cx="2819520" cy="2743200"/>
            <a:chOff x="5257800" y="2743200"/>
            <a:chExt cx="2819520" cy="2743200"/>
          </a:xfrm>
        </p:grpSpPr>
        <p:sp>
          <p:nvSpPr>
            <p:cNvPr id="415" name=""/>
            <p:cNvSpPr/>
            <p:nvPr/>
          </p:nvSpPr>
          <p:spPr>
            <a:xfrm>
              <a:off x="58672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77120" y="2743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866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960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578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57800" y="27432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57800" y="30481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57800" y="3352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57800" y="3657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57800" y="39625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257800" y="4267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57800" y="4572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57800" y="48769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57800" y="51814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81680" y="274320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34120" y="487692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0" y="114300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x-intercept and the y-intercept of the line. Use the intercepts to sketch a quick graph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248520" y="48006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228600" y="2133720"/>
          <a:ext cx="360504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33720"/>
                    <a:ext cx="360504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6705720" y="32767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095880" y="2666880"/>
            <a:ext cx="914400" cy="289584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3886200"/>
            <a:ext cx="289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819520" y="3505320"/>
          <a:ext cx="836640" cy="13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505320"/>
                    <a:ext cx="83664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3429000" y="3505320"/>
          <a:ext cx="1538280" cy="13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3505320"/>
                    <a:ext cx="15382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0" y="5181480"/>
            <a:ext cx="289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841480" y="4800600"/>
          <a:ext cx="747720" cy="13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1480" y="4800600"/>
                    <a:ext cx="74772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3581280" y="5181480"/>
          <a:ext cx="792360" cy="52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5181480"/>
                    <a:ext cx="79236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1828800" y="2590920"/>
          <a:ext cx="1011240" cy="52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590920"/>
                    <a:ext cx="10112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457200" y="2590920"/>
          <a:ext cx="1011240" cy="52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7200" y="2590920"/>
                    <a:ext cx="10112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457200" y="3124080"/>
            <a:ext cx="312408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0" y="3200400"/>
          <a:ext cx="2068560" cy="650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0" y="3200400"/>
                    <a:ext cx="206856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1981080" y="3200400"/>
          <a:ext cx="1055880" cy="52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81080" y="3200400"/>
                    <a:ext cx="10558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train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304920" y="1371600"/>
            <a:ext cx="8534160" cy="1523880"/>
            <a:chOff x="304920" y="1371600"/>
            <a:chExt cx="8534160" cy="1523880"/>
          </a:xfrm>
        </p:grpSpPr>
        <p:sp>
          <p:nvSpPr>
            <p:cNvPr id="63" name=""/>
            <p:cNvSpPr/>
            <p:nvPr/>
          </p:nvSpPr>
          <p:spPr>
            <a:xfrm>
              <a:off x="304920" y="1371600"/>
              <a:ext cx="8534160" cy="152388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2133720"/>
              <a:ext cx="8534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371600"/>
              <a:ext cx="0" cy="1523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nding Inter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29718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x-intercept of the graph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266840" y="3581280"/>
          <a:ext cx="36529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3581280"/>
                    <a:ext cx="365292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295280" y="4114800"/>
                <a:ext cx="36576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2" name=""/>
          <p:cNvGraphicFramePr/>
          <p:nvPr/>
        </p:nvGraphicFramePr>
        <p:xfrm>
          <a:off x="3124080" y="4191120"/>
          <a:ext cx="39708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191120"/>
                    <a:ext cx="3970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743200" y="4800600"/>
          <a:ext cx="113184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4800600"/>
                    <a:ext cx="1131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733920" y="4724280"/>
          <a:ext cx="1361880" cy="6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3920" y="4724280"/>
                    <a:ext cx="136188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 txBox="1"/>
          <p:nvPr/>
        </p:nvSpPr>
        <p:spPr>
          <a:xfrm>
            <a:off x="5867280" y="5486400"/>
            <a:ext cx="243864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(2,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44792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x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20968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y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129528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05740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314960" y="5410080"/>
          <a:ext cx="76824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14960" y="5410080"/>
                    <a:ext cx="7682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156120" y="5410080"/>
          <a:ext cx="76824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56120" y="5410080"/>
                    <a:ext cx="7682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343400" y="541008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5410080"/>
            <a:ext cx="7621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352680" y="6095880"/>
          <a:ext cx="492120" cy="487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52680" y="6095880"/>
                    <a:ext cx="4921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3809880" y="6019920"/>
          <a:ext cx="935280" cy="58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09880" y="6019920"/>
                    <a:ext cx="93528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04920" y="1371600"/>
            <a:ext cx="8534160" cy="1523880"/>
            <a:chOff x="304920" y="1371600"/>
            <a:chExt cx="8534160" cy="1523880"/>
          </a:xfrm>
        </p:grpSpPr>
        <p:sp>
          <p:nvSpPr>
            <p:cNvPr id="94" name=""/>
            <p:cNvSpPr/>
            <p:nvPr/>
          </p:nvSpPr>
          <p:spPr>
            <a:xfrm>
              <a:off x="304920" y="1371600"/>
              <a:ext cx="8534160" cy="152388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920" y="2133720"/>
              <a:ext cx="8534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720" y="1371600"/>
              <a:ext cx="0" cy="1523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nding Inter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29718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x-intercept of the graph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52680" y="3581280"/>
          <a:ext cx="308124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2680" y="3581280"/>
                    <a:ext cx="308124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523880" y="4114800"/>
                <a:ext cx="30909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3" name=""/>
          <p:cNvGraphicFramePr/>
          <p:nvPr/>
        </p:nvGraphicFramePr>
        <p:xfrm>
          <a:off x="3124080" y="4191120"/>
          <a:ext cx="39708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191120"/>
                    <a:ext cx="3970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048120" y="4800600"/>
          <a:ext cx="78732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4800600"/>
                    <a:ext cx="7873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733920" y="4724280"/>
          <a:ext cx="995400" cy="6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3920" y="4724280"/>
                    <a:ext cx="9954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 txBox="1"/>
          <p:nvPr/>
        </p:nvSpPr>
        <p:spPr>
          <a:xfrm>
            <a:off x="5867280" y="5486400"/>
            <a:ext cx="243864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(2,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44792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x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20968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y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129528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205740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295880" y="5410080"/>
          <a:ext cx="40644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95880" y="5410080"/>
                    <a:ext cx="4064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335400" y="5410080"/>
          <a:ext cx="40788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35400" y="5410080"/>
                    <a:ext cx="4078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4143240" y="541008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5410080"/>
            <a:ext cx="7621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352680" y="6095880"/>
          <a:ext cx="492120" cy="487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52680" y="6095880"/>
                    <a:ext cx="4921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809880" y="6019920"/>
          <a:ext cx="935280" cy="58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09880" y="6019920"/>
                    <a:ext cx="93528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304920" y="1371600"/>
            <a:ext cx="8534160" cy="1523880"/>
            <a:chOff x="304920" y="1371600"/>
            <a:chExt cx="8534160" cy="1523880"/>
          </a:xfrm>
        </p:grpSpPr>
        <p:sp>
          <p:nvSpPr>
            <p:cNvPr id="125" name=""/>
            <p:cNvSpPr/>
            <p:nvPr/>
          </p:nvSpPr>
          <p:spPr>
            <a:xfrm>
              <a:off x="304920" y="1371600"/>
              <a:ext cx="8534160" cy="152388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4920" y="2133720"/>
              <a:ext cx="8534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33720" y="1371600"/>
              <a:ext cx="0" cy="1523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nding Inter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9718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of the graph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816200" y="3581280"/>
          <a:ext cx="255420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3581280"/>
                    <a:ext cx="255420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752480" y="4114800"/>
                <a:ext cx="25988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4" name=""/>
          <p:cNvGraphicFramePr/>
          <p:nvPr/>
        </p:nvGraphicFramePr>
        <p:xfrm>
          <a:off x="2057400" y="4191120"/>
          <a:ext cx="39672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4191120"/>
                    <a:ext cx="3967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666880" y="4952880"/>
          <a:ext cx="885960" cy="6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4952880"/>
                    <a:ext cx="88596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429000" y="4800600"/>
          <a:ext cx="995400" cy="6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4800600"/>
                    <a:ext cx="9954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 txBox="1"/>
          <p:nvPr/>
        </p:nvSpPr>
        <p:spPr>
          <a:xfrm>
            <a:off x="5867280" y="5486400"/>
            <a:ext cx="243864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(0,-6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44792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x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220968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y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129528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205740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048120" y="5638680"/>
          <a:ext cx="492120" cy="633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5638680"/>
                    <a:ext cx="49212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429000" y="5562720"/>
          <a:ext cx="1279440" cy="583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27944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304920" y="1371600"/>
            <a:ext cx="8534160" cy="1523880"/>
            <a:chOff x="304920" y="1371600"/>
            <a:chExt cx="8534160" cy="1523880"/>
          </a:xfrm>
        </p:grpSpPr>
        <p:sp>
          <p:nvSpPr>
            <p:cNvPr id="150" name=""/>
            <p:cNvSpPr/>
            <p:nvPr/>
          </p:nvSpPr>
          <p:spPr>
            <a:xfrm>
              <a:off x="304920" y="1371600"/>
              <a:ext cx="8534160" cy="152388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920" y="2133720"/>
              <a:ext cx="8534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33720" y="1371600"/>
              <a:ext cx="0" cy="1523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nding Inter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9718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of the graph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6680" y="3581280"/>
          <a:ext cx="361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581280"/>
                    <a:ext cx="361152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143000" y="4114800"/>
                <a:ext cx="34765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</m:d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9" name=""/>
          <p:cNvGraphicFramePr/>
          <p:nvPr/>
        </p:nvGraphicFramePr>
        <p:xfrm>
          <a:off x="2057400" y="4191120"/>
          <a:ext cx="39672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4191120"/>
                    <a:ext cx="3967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863800" y="4952880"/>
          <a:ext cx="492120" cy="6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63800" y="4952880"/>
                    <a:ext cx="49212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352680" y="4800600"/>
          <a:ext cx="1362240" cy="6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4800600"/>
                    <a:ext cx="136224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 txBox="1"/>
          <p:nvPr/>
        </p:nvSpPr>
        <p:spPr>
          <a:xfrm>
            <a:off x="5562720" y="4800600"/>
            <a:ext cx="243828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(0,-4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44792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x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20968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y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129528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05740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kids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304920" y="1371600"/>
            <a:ext cx="8534160" cy="1523880"/>
            <a:chOff x="304920" y="1371600"/>
            <a:chExt cx="8534160" cy="1523880"/>
          </a:xfrm>
        </p:grpSpPr>
        <p:sp>
          <p:nvSpPr>
            <p:cNvPr id="171" name=""/>
            <p:cNvSpPr/>
            <p:nvPr/>
          </p:nvSpPr>
          <p:spPr>
            <a:xfrm>
              <a:off x="304920" y="1371600"/>
              <a:ext cx="8534160" cy="152388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4920" y="2133720"/>
              <a:ext cx="8534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33720" y="1371600"/>
              <a:ext cx="0" cy="1523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nding Inter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29718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of the graph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19320" y="3581280"/>
          <a:ext cx="308268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581280"/>
                    <a:ext cx="308268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19320" y="4191120"/>
                <a:ext cx="31240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0" name=""/>
          <p:cNvGraphicFramePr/>
          <p:nvPr/>
        </p:nvGraphicFramePr>
        <p:xfrm>
          <a:off x="1752480" y="4267080"/>
          <a:ext cx="397080" cy="5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267080"/>
                    <a:ext cx="3970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286000" y="4876920"/>
          <a:ext cx="1181160" cy="73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4876920"/>
                    <a:ext cx="118116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352680" y="4876920"/>
          <a:ext cx="995400" cy="61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4876920"/>
                    <a:ext cx="99540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 txBox="1"/>
          <p:nvPr/>
        </p:nvSpPr>
        <p:spPr>
          <a:xfrm>
            <a:off x="5562720" y="4800600"/>
            <a:ext cx="243828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(0,-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44792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x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20968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y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33720" y="129528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205740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627360" y="5562720"/>
          <a:ext cx="768600" cy="533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27360" y="5562720"/>
                    <a:ext cx="7686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666880" y="5562720"/>
          <a:ext cx="770040" cy="53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66880" y="5562720"/>
                    <a:ext cx="7700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3656160" y="556272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37000" y="5562720"/>
            <a:ext cx="76176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819520" y="6224760"/>
          <a:ext cx="492120" cy="63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19520" y="6224760"/>
                    <a:ext cx="49212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276720" y="6072120"/>
          <a:ext cx="1279440" cy="584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76720" y="6072120"/>
                    <a:ext cx="12794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URCRAZ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304920" y="1371600"/>
            <a:ext cx="8534160" cy="1523880"/>
            <a:chOff x="304920" y="1371600"/>
            <a:chExt cx="8534160" cy="1523880"/>
          </a:xfrm>
        </p:grpSpPr>
        <p:sp>
          <p:nvSpPr>
            <p:cNvPr id="202" name=""/>
            <p:cNvSpPr/>
            <p:nvPr/>
          </p:nvSpPr>
          <p:spPr>
            <a:xfrm>
              <a:off x="304920" y="1371600"/>
              <a:ext cx="8534160" cy="152388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4920" y="2133720"/>
              <a:ext cx="8534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33720" y="1371600"/>
              <a:ext cx="0" cy="1523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inding Inter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2895480"/>
            <a:ext cx="883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n standard form, Ax + By = C ,                             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200400" y="3429000"/>
          <a:ext cx="66024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429000"/>
                    <a:ext cx="66024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380880" y="144792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x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2209680"/>
            <a:ext cx="175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y-intercep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33720" y="129528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205740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is equal to 0. Place where the graph crosses the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518148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200400" y="4800600"/>
          <a:ext cx="617400" cy="13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4800600"/>
                    <a:ext cx="61740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king a Quick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257800" y="2743200"/>
            <a:ext cx="2743200" cy="2743200"/>
            <a:chOff x="5257800" y="2743200"/>
            <a:chExt cx="2743200" cy="2743200"/>
          </a:xfrm>
        </p:grpSpPr>
        <p:sp>
          <p:nvSpPr>
            <p:cNvPr id="220" name=""/>
            <p:cNvSpPr/>
            <p:nvPr/>
          </p:nvSpPr>
          <p:spPr>
            <a:xfrm>
              <a:off x="58672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77120" y="2743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866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960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78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57800" y="27432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57800" y="30481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57800" y="3352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57800" y="3657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57800" y="39625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57800" y="4267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57800" y="4572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57800" y="48769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7800" y="51814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67280" y="274320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7800" y="487692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0" y="114300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x-intercept and the y-intercept of the line. Use the intercepts to sketch a quick graph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0120" y="48006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133720"/>
          <a:ext cx="28576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28576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5791320" y="29718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86400" y="2666880"/>
            <a:ext cx="2590920" cy="25909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676520" y="2666880"/>
          <a:ext cx="747720" cy="4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666880"/>
                    <a:ext cx="74772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533520" y="2666880"/>
          <a:ext cx="747720" cy="47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666880"/>
                    <a:ext cx="74772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57200" y="3200400"/>
            <a:ext cx="312408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28600" y="3200400"/>
          <a:ext cx="1231920" cy="60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3200400"/>
                    <a:ext cx="12319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1447920" y="3200400"/>
          <a:ext cx="836640" cy="52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7920" y="3200400"/>
                    <a:ext cx="836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0" y="3886200"/>
            <a:ext cx="289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895480" y="3505320"/>
          <a:ext cx="484200" cy="1344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95480" y="3505320"/>
                    <a:ext cx="4842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3352680" y="3886200"/>
          <a:ext cx="836640" cy="52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52680" y="3886200"/>
                    <a:ext cx="836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0" y="5181480"/>
            <a:ext cx="289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895480" y="4800600"/>
          <a:ext cx="484200" cy="1344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95480" y="4800600"/>
                    <a:ext cx="4842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352680" y="5181480"/>
          <a:ext cx="836640" cy="520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352680" y="5181480"/>
                    <a:ext cx="8366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king a Quick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257800" y="2743200"/>
            <a:ext cx="2743200" cy="2743200"/>
            <a:chOff x="5257800" y="2743200"/>
            <a:chExt cx="2743200" cy="2743200"/>
          </a:xfrm>
        </p:grpSpPr>
        <p:sp>
          <p:nvSpPr>
            <p:cNvPr id="264" name=""/>
            <p:cNvSpPr/>
            <p:nvPr/>
          </p:nvSpPr>
          <p:spPr>
            <a:xfrm>
              <a:off x="58672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77120" y="274320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866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9608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57800" y="274320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7800" y="27432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57800" y="30481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57800" y="3352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57800" y="3657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7800" y="39625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57800" y="42670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57800" y="45720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257800" y="48769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7800" y="51814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67280" y="274320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57800" y="426708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0" y="114300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x-intercept and the y-intercept of the line. Use the intercepts to sketch a quick graph of the equ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315200" y="41911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36600" y="2133720"/>
          <a:ext cx="294624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2133720"/>
                    <a:ext cx="294624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5791320" y="44956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181480" y="4114440"/>
            <a:ext cx="2895840" cy="60948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886200"/>
            <a:ext cx="289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2895480" y="3505320"/>
          <a:ext cx="704880" cy="13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505320"/>
                    <a:ext cx="7048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505320" y="3886200"/>
          <a:ext cx="105552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886200"/>
                    <a:ext cx="10555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0" y="5181480"/>
            <a:ext cx="2895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-intercept i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819520" y="4800600"/>
          <a:ext cx="792000" cy="13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9520" y="4800600"/>
                    <a:ext cx="7920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3505320" y="5181480"/>
          <a:ext cx="1145880" cy="52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5320" y="5181480"/>
                    <a:ext cx="11458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6019920" y="5562720"/>
            <a:ext cx="2133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3   6  9 12 15 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75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75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 SKELTON</cp:lastModifiedBy>
  <dcterms:modified xsi:type="dcterms:W3CDTF">2004-09-07T22:05:22Z</dcterms:modified>
  <cp:revision>296</cp:revision>
  <dc:subject/>
  <dc:title>No Slide Title</dc:title>
</cp:coreProperties>
</file>